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8E0-E20D-4911-B32A-576502ED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165-5D9B-4E87-80B2-1A55E607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F26-E934-4802-A350-518049BC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48D-40E0-458E-BC2C-8131A84F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3D9-9715-41A0-A188-44597B50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7267-66AE-4ECC-BBF0-CA077600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803-C285-409B-907F-4563298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B0D8-9ABB-419A-9CBE-36530891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17F9-B25B-4DB8-BF50-AA33AAB2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784-09BC-478A-BB64-AD52432E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29A-A285-446A-A3AC-9C8B8B0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C59-1CF9-4D65-9EDE-8E2AF75A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E65-D67F-42D4-B116-E556C3F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E41-5A1E-441F-8632-9C3FAE7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238-4861-4369-B7EA-7C8578F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C6AA-5DBF-4957-B2D9-4B83CED8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745-4EC2-4DB9-8E8D-0996D7E4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ADB-D400-45A7-9618-F6AB021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839-217B-4005-9DE4-903330D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94D-21E0-4397-83BB-9279E72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51C-9DD2-46C3-8C9F-692B882B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891-8D07-4D0C-92DD-919EA10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AA4-4B8B-4B35-8A17-EC9320F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4DB-B70D-4FDF-8D39-3F7FB4D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46A-95D7-435F-B309-F35951E616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406E-6885-4D9A-9605-AF433FBD73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Pearl%20and%20Wagner/jigword2.html" TargetMode="External"/><Relationship Id="rId2" Type="http://schemas.openxmlformats.org/officeDocument/2006/relationships/hyperlink" Target="http://www.quia.com/ba/109568.html" TargetMode="External"/><Relationship Id="rId3" Type="http://schemas.openxmlformats.org/officeDocument/2006/relationships/hyperlink" Target="http://www.spellingcity.com/index.php?option=com_spellcity&amp;Itemid=122&amp;task=viewList&amp;listId=354236" TargetMode="External"/><Relationship Id="rId4" Type="http://schemas.openxmlformats.org/officeDocument/2006/relationships/hyperlink" Target="http://www.scottsboro.org/~flewis/SF%20Reading%20Street/Hot%20Potatoes/Pearl_&amp;_Wagner.htm" TargetMode="External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robotsandus.org/moving/" TargetMode="External"/><Relationship Id="rId2" Type="http://schemas.openxmlformats.org/officeDocument/2006/relationships/hyperlink" Target="http://www.in2english.com.cn/fyk/fyk.php?pageid=610" TargetMode="External"/><Relationship Id="rId3" Type="http://schemas.openxmlformats.org/officeDocument/2006/relationships/hyperlink" Target="http://www.firstschoolyears.com/literacy/word/phonics/vowels/interactive/sorting/e/lse.htm" TargetMode="External"/><Relationship Id="rId4" Type="http://schemas.openxmlformats.org/officeDocument/2006/relationships/hyperlink" Target="http://www.bbc.co.uk/schools/wordsandpictures/longvow/poems/flash/fpoem3.shtml" TargetMode="External"/><Relationship Id="rId5" Type="http://schemas.openxmlformats.org/officeDocument/2006/relationships/hyperlink" Target="http://www.bbc.co.uk/schools/wordsandpictures/longvow/poems/flash/fpoem3.shtml" TargetMode="External"/><Relationship Id="rId6" Type="http://schemas.openxmlformats.org/officeDocument/2006/relationships/hyperlink" Target="http://www.bbc.co.uk/schools/wordsandpictures/longvow/poems/flash/fpoem3.shtml" TargetMode="External"/><Relationship Id="rId7" Type="http://schemas.openxmlformats.org/officeDocument/2006/relationships/hyperlink" Target="http://www.ezschool.com/Games/Antonyms1.html" TargetMode="External"/><Relationship Id="rId8" Type="http://schemas.openxmlformats.org/officeDocument/2006/relationships/hyperlink" Target="http://vdc.engr.scu.edu/KnowItAll/English/2ndEnglish/2EG4_1.htm" TargetMode="External"/><Relationship Id="rId9" Type="http://schemas.openxmlformats.org/officeDocument/2006/relationships/hyperlink" Target="http://www.brainpop.com/english/grammar/antonymssynonymsandhomonyms/" TargetMode="External"/><Relationship Id="rId10" Type="http://schemas.openxmlformats.org/officeDocument/2006/relationships/hyperlink" Target="http://www.brainpop.com/technology/scienceandindustry/robots/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8.xml"/><Relationship Id="rId3" Type="http://schemas.openxmlformats.org/officeDocument/2006/relationships/slide" Target="slide79.xml"/><Relationship Id="rId4" Type="http://schemas.openxmlformats.org/officeDocument/2006/relationships/slide" Target="slide93.xml"/><Relationship Id="rId5" Type="http://schemas.openxmlformats.org/officeDocument/2006/relationships/slide" Target="slide103.xm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60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67652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2860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Picture 19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7920" y="1981080"/>
          <a:ext cx="2819160" cy="3886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won.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9" name="Picture 19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458200" y="5791320"/>
            <a:ext cx="48744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2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3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4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3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4"/>
                        </a:rPr>
                        <a:t>ea= long e sound</a:t>
                      </a: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5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6"/>
                        </a:rPr>
                        <a:t>Poem Pack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7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8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9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0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6" name="Picture 9" descr="Pearl and Wagner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8458200" y="5791320"/>
            <a:ext cx="48744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om’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2819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33"/>
                </a:solidFill>
                <a:latin typeface="Verdana"/>
              </a:rPr>
              <a:t>Small Group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1981080"/>
          <a:ext cx="2819160" cy="3886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’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inform or explain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entert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describe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convince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Picture 26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One farmer has a smart idea for getting rid of the mice.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e most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usan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“Inventors Succeed.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51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inform or explain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enterta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describe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convince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’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first, next, and last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5" name="Picture 21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’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7162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ree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’s mouth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k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bs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4" name="Picture 20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45820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45:57Z</dcterms:modified>
  <cp:revision>21</cp:revision>
  <dc:subject/>
  <dc:title>Slide 1</dc:title>
</cp:coreProperties>
</file>